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9FE-CD4D-41AF-BEF8-12BDEE69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8B25-FF88-4C5C-BEAD-BC2F027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2E2-39E4-4336-A7B5-5BD4E8C5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5FF-FD60-402F-8372-BC83AA59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FCC-02AE-49A0-B336-065931C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6F7-B448-4671-9AE8-71DE8019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265-55B7-4612-A7D5-37533264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C35-04A7-4D2A-BAB8-C9DC690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D8D-F9AC-41E5-A73F-81B3478E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307-1AFE-4110-8319-36A2CDB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5BD-3576-497B-AE6F-0F241FA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998-AFDB-49FB-871C-E130DE0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0E7-77A1-4CDC-A4AF-0ACE200F2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0968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Probability &amp; 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1268280"/>
            <a:ext cx="9144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he likelihood a particular event will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in fli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ces of heads?  Tail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co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ces of two heads?  Two tails? Heads &amp; tail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FM University"/>
              </a:rPr>
              <a:t>Rule of Multi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”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t events do not affect future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NDEPEND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4674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324480" y="2819520"/>
            <a:ext cx="914400" cy="87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11-2 Probability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Punnett Squ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can be used to show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ossible outco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trait  according to the traits of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show th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Text Placeholder 2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403884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e x E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quares represent possib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fspring gets one gene from “dad” (from the top) and one gene from “Mom” (from the si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of the offspring will have free earlob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will have attached ea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% will be heterozygous for the tra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400800" y="2743200"/>
          <a:ext cx="2514600" cy="2514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858000" y="2133720"/>
            <a:ext cx="533520" cy="533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4343400"/>
            <a:ext cx="53316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2971800"/>
            <a:ext cx="533160" cy="533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924680" y="2133720"/>
            <a:ext cx="533520" cy="5331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Heather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467480" y="5410080"/>
            <a:ext cx="16765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ying to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5943600"/>
          <a:ext cx="137160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943600"/>
                    <a:ext cx="137160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696080" y="5943600"/>
          <a:ext cx="6066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943600"/>
                    <a:ext cx="606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438280" y="1905120"/>
          <a:ext cx="4190760" cy="4114440"/>
        </p:xfrm>
        <a:graphic>
          <a:graphicData uri="http://schemas.openxmlformats.org/drawingml/2006/table">
            <a:tbl>
              <a:tblPr/>
              <a:tblGrid>
                <a:gridCol w="2226240"/>
                <a:gridCol w="196452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10-04-19T19:57:00Z</dcterms:modified>
  <cp:revision>17</cp:revision>
  <dc:subject/>
  <dc:title>GENETICS</dc:title>
</cp:coreProperties>
</file>